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T+P4U-transparentwhitebkgrd" descr=""/>
          <p:cNvPicPr/>
          <p:nvPr/>
        </p:nvPicPr>
        <p:blipFill>
          <a:blip r:embed="rId2"/>
          <a:stretch/>
        </p:blipFill>
        <p:spPr>
          <a:xfrm>
            <a:off x="8731080" y="3279600"/>
            <a:ext cx="297000" cy="352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990720" y="1066680"/>
            <a:ext cx="69339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How Science wo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Verdana"/>
              </a:rPr>
              <a:t>Variab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4db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outcome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386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variable that changes as a resul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is the variable that you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114800"/>
            <a:ext cx="42674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ich is the depend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riable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he current is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24638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971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current through a resistor depends on the voltage acros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hmsLawCircuit+Transparent" descr=""/>
          <p:cNvPicPr/>
          <p:nvPr/>
        </p:nvPicPr>
        <p:blipFill>
          <a:blip r:embed="rId1"/>
          <a:stretch/>
        </p:blipFill>
        <p:spPr>
          <a:xfrm>
            <a:off x="5219640" y="3772080"/>
            <a:ext cx="337968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Contro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3860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se are all the variables that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change, to make sure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rofM-fromTechSetTIFF+Transparent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179388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417528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must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elastic band all the tim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scale etc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098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a we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ffects the length of an elastic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Contro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3860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se are all the variables that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change, to make sure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17528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must u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beak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amount of wat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position in the room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room temperatu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309888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rate of cooling of a beaker depends on the initial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eaker+thermom+Transparent" descr=""/>
          <p:cNvPicPr/>
          <p:nvPr/>
        </p:nvPicPr>
        <p:blipFill>
          <a:blip r:embed="rId1"/>
          <a:stretch/>
        </p:blipFill>
        <p:spPr>
          <a:xfrm>
            <a:off x="6989760" y="2895480"/>
            <a:ext cx="1544760" cy="32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1386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se are all the variables that mus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change, to make sure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114800"/>
            <a:ext cx="60199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ich are the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variables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Us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circuit a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temperature eac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638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971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current through a resistor depends on the voltage acros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Contro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hmsLawCircuit+Transparent" descr=""/>
          <p:cNvPicPr/>
          <p:nvPr/>
        </p:nvPicPr>
        <p:blipFill>
          <a:blip r:embed="rId1"/>
          <a:stretch/>
        </p:blipFill>
        <p:spPr>
          <a:xfrm>
            <a:off x="5257800" y="3706920"/>
            <a:ext cx="337968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219320"/>
            <a:ext cx="72392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you draw up a table of your resul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ependent variable goes in the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column, like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able+Transparent" descr=""/>
          <p:cNvPicPr/>
          <p:nvPr/>
        </p:nvPicPr>
        <p:blipFill>
          <a:blip r:embed="rId1"/>
          <a:stretch/>
        </p:blipFill>
        <p:spPr>
          <a:xfrm>
            <a:off x="838080" y="2757600"/>
            <a:ext cx="7543800" cy="18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2616120"/>
            <a:ext cx="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76440" y="45338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If you take several readings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the dependent variable, t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you can calculate the mean (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391520" y="4114440"/>
            <a:ext cx="0" cy="1219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6440" y="57913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Then your results will be more </a:t>
            </a:r>
            <a:r>
              <a:rPr b="0" lang="en-US" sz="2400" spc="-1" strike="noStrike">
                <a:solidFill>
                  <a:srgbClr val="0000ff"/>
                </a:solidFill>
                <a:latin typeface="Swis721 Md BT"/>
              </a:rPr>
              <a:t>reliable</a:t>
            </a: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21932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57200"/>
            <a:ext cx="89917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rofM-fromTechSetTIFF+Transparent" descr=""/>
          <p:cNvPicPr/>
          <p:nvPr/>
        </p:nvPicPr>
        <p:blipFill>
          <a:blip r:embed="rId1"/>
          <a:stretch/>
        </p:blipFill>
        <p:spPr>
          <a:xfrm>
            <a:off x="6283440" y="1219320"/>
            <a:ext cx="1793880" cy="358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14400" y="1770120"/>
            <a:ext cx="24382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5146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048120"/>
            <a:ext cx="4572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length of the e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control variables are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419720"/>
            <a:ext cx="4572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ame elastic ban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ame scale, et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o it is a fair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53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21932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57200"/>
            <a:ext cx="89917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770120"/>
            <a:ext cx="4648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itial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5146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048120"/>
            <a:ext cx="5410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emperature as it c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8862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control variables are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419720"/>
            <a:ext cx="678168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beak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amount of wat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position in the room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room temperatu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 it is a fair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3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eaker+thermom+Transparent" descr=""/>
          <p:cNvPicPr/>
          <p:nvPr/>
        </p:nvPicPr>
        <p:blipFill>
          <a:blip r:embed="rId1"/>
          <a:stretch/>
        </p:blipFill>
        <p:spPr>
          <a:xfrm>
            <a:off x="6532560" y="1143000"/>
            <a:ext cx="154476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121932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457200"/>
            <a:ext cx="89917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770120"/>
            <a:ext cx="4648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oltage (p.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5146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dependent variable i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048120"/>
            <a:ext cx="5410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Swis721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886200"/>
            <a:ext cx="518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e control variables are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419720"/>
            <a:ext cx="716292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circui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a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same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temperature each ti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so it is a fair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3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721 Md BT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hmsLawCircuit+Transparent" descr=""/>
          <p:cNvPicPr/>
          <p:nvPr/>
        </p:nvPicPr>
        <p:blipFill>
          <a:blip r:embed="rId1"/>
          <a:stretch/>
        </p:blipFill>
        <p:spPr>
          <a:xfrm>
            <a:off x="5257800" y="1420920"/>
            <a:ext cx="337968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05120"/>
            <a:ext cx="7543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Understand the difference betwe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- independ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- dependen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- contro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Be able to identify these variabl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en doing your practica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4880" y="59220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62120" y="2252520"/>
            <a:ext cx="67053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625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bout the different types of variab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149"/>
              </a:spcBef>
              <a:buClr>
                <a:srgbClr val="ff9900"/>
              </a:buClr>
              <a:buFont typeface="Swis721 Md BT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How to identify them when doing your practical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9000" y="609480"/>
            <a:ext cx="5105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wis721 Md BT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should lear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14400" y="457200"/>
            <a:ext cx="7162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0" y="762120"/>
            <a:ext cx="3886200" cy="2286000"/>
          </a:xfrm>
          <a:prstGeom prst="cloudCallout">
            <a:avLst>
              <a:gd name="adj1" fmla="val -99916"/>
              <a:gd name="adj2" fmla="val 44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4280" y="11430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bles are things tha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y an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rofM-fromTechSetTIFF+Transparent" descr=""/>
          <p:cNvPicPr/>
          <p:nvPr/>
        </p:nvPicPr>
        <p:blipFill>
          <a:blip r:embed="rId1"/>
          <a:stretch/>
        </p:blipFill>
        <p:spPr>
          <a:xfrm>
            <a:off x="868320" y="2362320"/>
            <a:ext cx="28386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386000"/>
            <a:ext cx="754380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 any experiment there are 3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n  </a:t>
            </a:r>
            <a:r>
              <a:rPr b="0" lang="en-US" sz="3600" spc="-1" strike="noStrike">
                <a:solidFill>
                  <a:srgbClr val="cc00cc"/>
                </a:solidFill>
                <a:latin typeface="Swis721 Md BT"/>
              </a:rPr>
              <a:t>independent</a:t>
            </a:r>
            <a:r>
              <a:rPr b="0" lang="en-US" sz="2800" spc="-1" strike="noStrike">
                <a:solidFill>
                  <a:srgbClr val="cc00cc"/>
                </a:solidFill>
                <a:latin typeface="Swis721 Md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(or input)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  </a:t>
            </a:r>
            <a:r>
              <a:rPr b="0" lang="en-US" sz="3600" spc="-1" strike="noStrike">
                <a:solidFill>
                  <a:srgbClr val="0000ff"/>
                </a:solidFill>
                <a:latin typeface="Swis721 Md BT"/>
              </a:rPr>
              <a:t>dependent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(or outcome)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me  </a:t>
            </a:r>
            <a:r>
              <a:rPr b="0" lang="en-US" sz="3600" spc="-1" strike="noStrike">
                <a:solidFill>
                  <a:srgbClr val="006a4e"/>
                </a:solidFill>
                <a:latin typeface="Swis721 Md BT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Let’s look at each typ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input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386000"/>
            <a:ext cx="7772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thing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decide to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025880"/>
            <a:ext cx="632484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decide the weight to app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Weight i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rofM-fromTechSetTIFF+Transparent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179388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7622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a we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ffects the length of an elastic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input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3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thing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decide to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025880"/>
            <a:ext cx="6324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decide the initial temperatu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itial temperature is the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eaker+thermom+Transparent" descr=""/>
          <p:cNvPicPr/>
          <p:nvPr/>
        </p:nvPicPr>
        <p:blipFill>
          <a:blip r:embed="rId1"/>
          <a:stretch/>
        </p:blipFill>
        <p:spPr>
          <a:xfrm>
            <a:off x="6989760" y="2895480"/>
            <a:ext cx="1544760" cy="3205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2133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76876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rate of cooling of a beaker depends on the initial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In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input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3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thing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wis721 Md BT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 decide to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873600"/>
            <a:ext cx="44960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Which is the independent variable as you add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he voltage is the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Swis721 Md BT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1337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666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current through a resistor depends on the voltage acros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hmsLawCircuit+Transparent" descr=""/>
          <p:cNvPicPr/>
          <p:nvPr/>
        </p:nvPicPr>
        <p:blipFill>
          <a:blip r:embed="rId1"/>
          <a:stretch/>
        </p:blipFill>
        <p:spPr>
          <a:xfrm>
            <a:off x="5146560" y="3470400"/>
            <a:ext cx="361656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4db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outcome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8600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variable that changes as a resul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is the variable that you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rofM-fromTechSetTIFF+Transparent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1793880" cy="3581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114800"/>
            <a:ext cx="60199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measure the resulting leng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of the elastic band,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Length is the 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952720"/>
            <a:ext cx="65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a we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affects the length of an elastic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457200"/>
            <a:ext cx="822960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4db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Dependent </a:t>
            </a:r>
            <a:r>
              <a:rPr b="0" lang="en-US" sz="3200" spc="-1" strike="noStrike">
                <a:solidFill>
                  <a:srgbClr val="4d4d4d"/>
                </a:solidFill>
                <a:latin typeface="Swis721 BT"/>
              </a:rPr>
              <a:t>(outcome)</a:t>
            </a: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386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This is the variable that changes as a resul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t is the variable that you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114800"/>
            <a:ext cx="60199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You measure the tempera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very minute as it cools, s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721 Md BT"/>
              </a:rPr>
              <a:t>temperature is the dependent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eaker+thermom+Transparent" descr=""/>
          <p:cNvPicPr/>
          <p:nvPr/>
        </p:nvPicPr>
        <p:blipFill>
          <a:blip r:embed="rId1"/>
          <a:stretch/>
        </p:blipFill>
        <p:spPr>
          <a:xfrm>
            <a:off x="6989760" y="2895480"/>
            <a:ext cx="1544760" cy="320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080" y="246384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97180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721 Md BT"/>
              </a:rPr>
              <a:t>Investigating how the rate of cooling of a beaker depends on the initial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00:01Z</dcterms:created>
  <dc:creator>Keith Johnson   keith@timetabler.com    (c) 2006</dc:creator>
  <dc:description/>
  <dc:language>en-US</dc:language>
  <cp:lastModifiedBy>sthemmingi</cp:lastModifiedBy>
  <dcterms:modified xsi:type="dcterms:W3CDTF">2006-07-12T08:39:24Z</dcterms:modified>
  <cp:revision>220</cp:revision>
  <dc:subject>Variables</dc:subject>
  <dc:title>How Science works : Variables</dc:title>
</cp:coreProperties>
</file>